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E264-D3CB-40F9-8851-F92EBB01C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7B0-74F9-4B27-83F8-EBF6F3CDA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8BEC-6607-4C4B-8F49-CDBEC86ED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E216-9D3E-4276-AC60-A21C86B0C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1FCE-3BCA-4282-BDD3-B6FFAB26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E1C9-E36F-46CC-BCE4-07DD568BD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9512-55A0-4555-AB88-7150F9C1C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2A94-2628-4702-95F3-20CFAE677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FEB4-E194-4A71-8CEA-1C2DDA79A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9BD-C7F8-4ECF-862D-093D51723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96A1-8F92-4784-8F62-20E32DE28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1CA6-5DCA-4F3A-A030-8E27293F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D143C91-BCF4-462D-99D4-648BA0C5156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CA7A5B-55C1-4FB7-9A8E-CEE40DE0E9C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G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Content Placeholder 3" descr="Presentation1.jpg"/>
          <p:cNvPicPr/>
          <p:nvPr/>
        </p:nvPicPr>
        <p:blipFill>
          <a:blip r:embed="rId1"/>
          <a:srcRect l="-18183" t="0" r="-18183" b="0"/>
          <a:stretch/>
        </p:blipFill>
        <p:spPr>
          <a:xfrm>
            <a:off x="-1038240" y="0"/>
            <a:ext cx="11703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Presentation2.jpg"/>
          <p:cNvPicPr/>
          <p:nvPr/>
        </p:nvPicPr>
        <p:blipFill>
          <a:blip r:embed="rId1"/>
          <a:srcRect l="-18183" t="0" r="-18183" b="0"/>
          <a:stretch/>
        </p:blipFill>
        <p:spPr>
          <a:xfrm>
            <a:off x="-1673280" y="0"/>
            <a:ext cx="1251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Presentation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4:47:43Z</dcterms:created>
  <dc:creator>admin</dc:creator>
  <dc:description/>
  <dc:language>en-US</dc:language>
  <cp:lastModifiedBy>admin</cp:lastModifiedBy>
  <dcterms:modified xsi:type="dcterms:W3CDTF">2012-02-10T15:14:59Z</dcterms:modified>
  <cp:revision>3</cp:revision>
  <dc:subject/>
  <dc:title>Ishmael Beah</dc:title>
</cp:coreProperties>
</file>